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9486C-AAB7-4A37-ACB6-C7E1DA45ED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B6B4B-5CC0-43A8-87D6-0A279D360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37D16-B968-442E-BC8D-1E0DC2B3D3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CO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C90B1A-6276-4608-8D3D-96CA3EC1B6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mirror to observe tee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867-B8F0-4D57-B649-5E930095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9AA-AF96-41C7-9B40-C0820892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292-439C-4717-91D6-BECD20C4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03E3-C8FD-4E03-BDF0-F00B2125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7159-4930-4D36-A21F-66D8BDF1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8AA0-75E8-4B07-87C4-3647F764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82AC-B300-46E0-8350-83B3B794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81FC-A9A3-48C0-8D86-15EA682D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A4D6F-B005-493F-82AD-8F9DA4F4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7280-6162-44BE-8C26-A125E38A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DD2C-04F6-4617-ABAB-0E140B58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D4DC-9082-4CB9-A2CB-720F027A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534F-ABF3-42DB-B09F-3FED6219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10E6-18C4-4B90-ACA5-B1DE8905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6026-B5C0-4CEF-A61B-C3E8B2E1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551F-1D57-4143-BFD3-DCA58D0F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AB12-D101-4000-82D1-4230EF95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0D43C-3F24-4033-826C-6AD24AF2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F104-E6FC-4115-AF47-B715BDE9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D8044-F230-44B3-8B59-E4D7D2E8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C72F-C9F7-43FB-B503-76D68845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1254D-E1D1-49A8-866E-65EF7017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93D-6B98-4D04-9E4C-6F736560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CE79C-A2FC-4369-B342-589BA259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24816-0611-44E1-81DC-11431726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5255B-7892-4358-9062-46DE3E46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0C42-B9F7-42BE-B70C-BF7032FB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35056-CEF6-4563-B24D-E53FED6A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C57C8-D111-425E-B600-F6BCEDBB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00DE-3D0C-4A9C-AE78-A1035666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306B6-4CE3-449B-80D2-96B2E05E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B3050-6ACC-4F35-BA9D-19C21196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2085-2FE5-420A-8A48-F4745106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28D-041C-4DEF-B7FC-6181EDD1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37CFF-C1E9-464C-A3B1-32A01F87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44778-39E0-476C-91D3-D60F9FEE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7B22C-3D49-491D-9FFD-C3148C52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9333C-612C-48D2-BFE4-C6677FEF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02AD5-221D-4ED1-8DC8-415F9DE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37814-D499-472D-B508-43E0D07F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5AAB-EF22-4318-A4DD-C60BAE8C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B0BD8-7EFC-4269-B8D5-B11A7ADD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8B1FF-2F98-4482-83BF-0D76E7B6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784E9-16A4-4655-BD8D-A5DD8A3A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4A4-F5FF-4A56-B604-0CB78875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7A8E-6FB5-4728-A05F-95B164F8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5C273-33B4-44EA-9B8C-F24BFF8C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4A04D-E233-49CE-B2AA-AEFD3705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4DE2B-B512-43F1-8439-6B388A79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A86E1-0FB7-4B1B-ABC7-6D1E2345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9DCCD-7B16-43AD-A114-1848DC6E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227E1-42F9-4EF4-9131-61A463E8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D7875-CC6D-4C14-8A4E-0B6A2F51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B1B7E-1CC9-4E76-995E-153E4F57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18640-6B1A-48BF-9097-CCBDF1CE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983-F794-4F2D-89AE-87C94E43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70799-492B-43E3-A0FC-5D9CA5DE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7C80D-C5CD-4A7F-8398-EF346316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AF979-94C3-4327-9CD8-2647704F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536BD-F00A-454A-9A2A-33E2A3DD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090C9-4DED-4EDD-9974-B6B96196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A3A35-E235-4E27-BEEC-A408F72C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1E471-A949-43C1-A52B-2EED164D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E7EB2-AE85-4689-959B-3FA829D8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11542-940C-492C-8BA4-DAD527FC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5EDD7-7C7F-4608-95E1-E832AB94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8B5-B594-4660-BCCD-C6E1995E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32672-B4D0-417A-838A-B93B7EE5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7AED1-8755-4B29-94ED-2CD362AF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04F55-89A7-4A10-89B1-C4736E3F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62E7D-26D7-4B51-9257-3F58FB3A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FAAE9-6F23-4FC3-A909-0B9DC1B8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4A03B-932D-4442-8DFF-C50C1F25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031E2-00AF-4CE0-99AE-C9061D44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811C6-3771-499E-9536-CAF98A6E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97F44-619C-49B0-A0C4-369E552B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16A9E-43D2-4134-A11C-82EE6AC0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D0C0-112C-4B5B-9CFD-0E19F053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B4D6F-7ABD-440B-845E-624120E6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D6C4-7081-48E7-86B9-91504942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0C750-51BB-48A1-9910-123A0DB0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86B39-2E61-47CD-9759-756AE265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72287-1CDB-4401-B41A-F2447782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F49-3334-47F6-B9B0-82B3997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898FAF-DA60-4D26-982B-5A2E90C7BC8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F224A-16E9-46E9-A0E9-6CD88EAE80E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87914-577F-40F4-ABC2-A43F58A5C52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65897-14E9-4324-8D56-48EB49FD5ED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6C208-1B01-4A6A-81BE-D98AA2FFCF1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A1E61-F7E5-4015-917D-F5CA03B533E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535D2-A363-4794-93D6-B9BF1689E40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4693A8-8EF6-403C-8E18-D0D1D8C796F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90E5B-A5E8-41F5-BB7A-592A34B9233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45068-DA38-4ACF-9FC8-EFC2E836B22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CB62D-995B-416B-9308-C33890ACDF2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D4750-2C3B-46BF-9073-5C43953F640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695D0-CA27-4333-BD88-03AB77436F9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A1D00-3407-4367-A72B-78723017560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eb.archive.org/web/20080406073310/http://hopkins-gi.org/multimedia/database/intro_250_Swallow.swf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11592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sson 6:  The Digestive System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6" name="Picture 3" descr="the-amazing-human-body-exhibition1.jpg"/>
          <p:cNvPicPr/>
          <p:nvPr/>
        </p:nvPicPr>
        <p:blipFill>
          <a:blip r:embed="rId1"/>
          <a:stretch/>
        </p:blipFill>
        <p:spPr>
          <a:xfrm>
            <a:off x="5410080" y="1219320"/>
            <a:ext cx="2989440" cy="43545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4" descr="HumanBody.187222308_std.jpg"/>
          <p:cNvPicPr/>
          <p:nvPr/>
        </p:nvPicPr>
        <p:blipFill>
          <a:blip r:embed="rId2"/>
          <a:stretch/>
        </p:blipFill>
        <p:spPr>
          <a:xfrm>
            <a:off x="1432080" y="2487600"/>
            <a:ext cx="3617640" cy="3086280"/>
          </a:xfrm>
          <a:prstGeom prst="rect">
            <a:avLst/>
          </a:prstGeom>
          <a:ln w="0">
            <a:noFill/>
          </a:ln>
        </p:spPr>
      </p:pic>
      <p:sp>
        <p:nvSpPr>
          <p:cNvPr id="328" name="TextBox 5"/>
          <p:cNvSpPr/>
          <p:nvPr/>
        </p:nvSpPr>
        <p:spPr>
          <a:xfrm>
            <a:off x="1332000" y="557388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. Function of digestiv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2. Function of mouth and esophag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6" descr=""/>
          <p:cNvPicPr/>
          <p:nvPr/>
        </p:nvPicPr>
        <p:blipFill>
          <a:blip r:embed="rId1"/>
          <a:stretch/>
        </p:blipFill>
        <p:spPr>
          <a:xfrm>
            <a:off x="4786200" y="478620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2"/>
          <a:stretch/>
        </p:blipFill>
        <p:spPr>
          <a:xfrm>
            <a:off x="635796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1434960" y="304920"/>
            <a:ext cx="7499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hat’s in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saliva 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what does it do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at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55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kes food sof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ucu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55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lps food slide down the esophag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icarbonate 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55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eutralize acid produced by bacteria (helps prevent tooth decay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4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alivary amylas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55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reaks down starch in the presence of wat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76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Gill Sans MT"/>
              </a:rPr>
              <a:t>Starch 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Gill Sans MT"/>
              </a:rPr>
              <a:t>maltose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 (a disaccharide of glucose)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How much saliva do you produce in a da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About 1-2 litres!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4"/>
          <a:stretch/>
        </p:blipFill>
        <p:spPr>
          <a:xfrm>
            <a:off x="142920" y="885960"/>
            <a:ext cx="21621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Tour of the Diges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Tongue, teeth, salivary glands, pharynx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sophag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piglottis and chok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Peristalsi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Cardiac and pyloric sphincters and stomach cell typ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 and gastric secretion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Panc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Digestion enzymes, pH balance and maintenance of blood sug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iver / Gall blad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Roles in digestion and other body proc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mall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Specialization – structure and function three sections and of the vill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nzyme a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arge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Functions and anaerobic bacteria with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Rectum and An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xpulsion of was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6" descr=""/>
          <p:cNvPicPr/>
          <p:nvPr/>
        </p:nvPicPr>
        <p:blipFill>
          <a:blip r:embed="rId1"/>
          <a:stretch/>
        </p:blipFill>
        <p:spPr>
          <a:xfrm>
            <a:off x="5929200" y="1515960"/>
            <a:ext cx="3214800" cy="257328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raveling to the stomach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447920"/>
            <a:ext cx="7499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Esophagu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ube from pharynx to stoma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t has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ucus membra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s the food slide dow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Mus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lnSpc>
                <a:spcPct val="80000"/>
              </a:lnSpc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ushes the food down the tub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ood moves down by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peristalsi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7" name="Picture 4" descr=""/>
          <p:cNvPicPr/>
          <p:nvPr/>
        </p:nvPicPr>
        <p:blipFill>
          <a:blip r:embed="rId2"/>
          <a:stretch/>
        </p:blipFill>
        <p:spPr>
          <a:xfrm>
            <a:off x="6500880" y="4635360"/>
            <a:ext cx="2428920" cy="22226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"/>
          <p:cNvPicPr/>
          <p:nvPr/>
        </p:nvPicPr>
        <p:blipFill>
          <a:blip r:embed="rId3"/>
          <a:stretch/>
        </p:blipFill>
        <p:spPr>
          <a:xfrm>
            <a:off x="3500280" y="4587840"/>
            <a:ext cx="20671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-2289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ristalsis 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(and reverse peristalsis)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434960" y="540720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w long does peristalsis tak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bout 9 seconds from pharynx to stomach (rate of 2-4cm/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Swallowing Anima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5996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wallowing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bolus enters th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PHARYNX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Uvula moves back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cover openings to no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rachea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to the lungs)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moves u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Epiglottis covers the trachea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(so that you don`t choke!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od goes down by peristalsis to the stomac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wallowing in ac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3" descr=""/>
          <p:cNvPicPr/>
          <p:nvPr/>
        </p:nvPicPr>
        <p:blipFill>
          <a:blip r:embed="rId1"/>
          <a:stretch/>
        </p:blipFill>
        <p:spPr>
          <a:xfrm>
            <a:off x="-787320" y="1650960"/>
            <a:ext cx="101599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92240" y="3240"/>
            <a:ext cx="80517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What does your digestive system look like?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3886200" y="2514600"/>
            <a:ext cx="762120" cy="2743200"/>
          </a:xfrm>
          <a:prstGeom prst="can">
            <a:avLst>
              <a:gd name="adj" fmla="val 688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2819520" y="2971800"/>
            <a:ext cx="121896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4495680" y="2971800"/>
            <a:ext cx="121932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"/>
          <p:cNvSpPr/>
          <p:nvPr/>
        </p:nvSpPr>
        <p:spPr>
          <a:xfrm rot="18142800">
            <a:off x="2579400" y="5819760"/>
            <a:ext cx="182880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 rot="3418800">
            <a:off x="4109400" y="5774040"/>
            <a:ext cx="1905120" cy="15228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15"/>
          <p:cNvGrpSpPr/>
          <p:nvPr/>
        </p:nvGrpSpPr>
        <p:grpSpPr>
          <a:xfrm>
            <a:off x="3840120" y="1871640"/>
            <a:ext cx="808200" cy="795240"/>
            <a:chOff x="3840120" y="1871640"/>
            <a:chExt cx="808200" cy="795240"/>
          </a:xfrm>
        </p:grpSpPr>
        <p:sp>
          <p:nvSpPr>
            <p:cNvPr id="336" name="Oval 4"/>
            <p:cNvSpPr/>
            <p:nvPr/>
          </p:nvSpPr>
          <p:spPr>
            <a:xfrm>
              <a:off x="3886200" y="1981080"/>
              <a:ext cx="762120" cy="685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0"/>
            <p:cNvSpPr/>
            <p:nvPr/>
          </p:nvSpPr>
          <p:spPr>
            <a:xfrm>
              <a:off x="4038480" y="2133720"/>
              <a:ext cx="152640" cy="7596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1"/>
            <p:cNvSpPr/>
            <p:nvPr/>
          </p:nvSpPr>
          <p:spPr>
            <a:xfrm>
              <a:off x="4343400" y="2133720"/>
              <a:ext cx="152280" cy="75960"/>
            </a:xfrm>
            <a:prstGeom prst="ellipse">
              <a:avLst/>
            </a:prstGeom>
            <a:solidFill>
              <a:srgbClr val="3891a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2"/>
            <p:cNvSpPr/>
            <p:nvPr/>
          </p:nvSpPr>
          <p:spPr>
            <a:xfrm>
              <a:off x="3840120" y="1871640"/>
              <a:ext cx="696960" cy="309600"/>
            </a:xfrm>
            <a:prstGeom prst="pie">
              <a:avLst/>
            </a:prstGeom>
            <a:solidFill>
              <a:srgbClr val="4f271c"/>
            </a:solidFill>
            <a:ln w="9360">
              <a:solidFill>
                <a:srgbClr val="4f27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3"/>
            <p:cNvSpPr/>
            <p:nvPr/>
          </p:nvSpPr>
          <p:spPr>
            <a:xfrm>
              <a:off x="4267080" y="22096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Oval 14"/>
          <p:cNvSpPr/>
          <p:nvPr/>
        </p:nvSpPr>
        <p:spPr>
          <a:xfrm>
            <a:off x="4125960" y="2438280"/>
            <a:ext cx="228600" cy="152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22"/>
          <p:cNvGrpSpPr/>
          <p:nvPr/>
        </p:nvGrpSpPr>
        <p:grpSpPr>
          <a:xfrm>
            <a:off x="1028880" y="1949400"/>
            <a:ext cx="3009600" cy="642600"/>
            <a:chOff x="1028880" y="1949400"/>
            <a:chExt cx="3009600" cy="642600"/>
          </a:xfrm>
        </p:grpSpPr>
        <p:sp>
          <p:nvSpPr>
            <p:cNvPr id="343" name="Text Box 16"/>
            <p:cNvSpPr/>
            <p:nvPr/>
          </p:nvSpPr>
          <p:spPr>
            <a:xfrm>
              <a:off x="1028880" y="1949400"/>
              <a:ext cx="19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he tube starts her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>
              <a:off x="1981080" y="2438280"/>
              <a:ext cx="2057400" cy="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AutoShape 19"/>
          <p:cNvSpPr/>
          <p:nvPr/>
        </p:nvSpPr>
        <p:spPr>
          <a:xfrm>
            <a:off x="4191120" y="2590920"/>
            <a:ext cx="142920" cy="1087200"/>
          </a:xfrm>
          <a:prstGeom prst="can">
            <a:avLst>
              <a:gd name="adj" fmla="val 3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866880" y="2847960"/>
            <a:ext cx="207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nd although there are a few twists and turns along the wa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1"/>
          <p:cNvSpPr/>
          <p:nvPr/>
        </p:nvSpPr>
        <p:spPr>
          <a:xfrm>
            <a:off x="2209680" y="3733920"/>
            <a:ext cx="205740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4"/>
          <p:cNvSpPr/>
          <p:nvPr/>
        </p:nvSpPr>
        <p:spPr>
          <a:xfrm>
            <a:off x="4191120" y="3657600"/>
            <a:ext cx="152280" cy="762120"/>
          </a:xfrm>
          <a:prstGeom prst="can">
            <a:avLst>
              <a:gd name="adj" fmla="val 350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5"/>
          <p:cNvSpPr/>
          <p:nvPr/>
        </p:nvSpPr>
        <p:spPr>
          <a:xfrm>
            <a:off x="4191120" y="4343400"/>
            <a:ext cx="152280" cy="914400"/>
          </a:xfrm>
          <a:prstGeom prst="can">
            <a:avLst>
              <a:gd name="adj" fmla="val 3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6"/>
          <p:cNvSpPr/>
          <p:nvPr/>
        </p:nvSpPr>
        <p:spPr>
          <a:xfrm>
            <a:off x="949680" y="457668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t comes out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7"/>
          <p:cNvSpPr/>
          <p:nvPr/>
        </p:nvSpPr>
        <p:spPr>
          <a:xfrm>
            <a:off x="2514600" y="4952880"/>
            <a:ext cx="1676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8"/>
          <p:cNvSpPr/>
          <p:nvPr/>
        </p:nvSpPr>
        <p:spPr>
          <a:xfrm>
            <a:off x="6156360" y="3421080"/>
            <a:ext cx="2911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ything that goes in the top hole (mouth) does not become part of the body until it is broken down then absorbed though a series of specialized structu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What does the digestive system do?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Gill Sans MT"/>
              </a:rPr>
              <a:t>DIGESTION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ill Sans MT"/>
              </a:rPr>
              <a:t>Mechanical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vs. </a:t>
            </a:r>
            <a:r>
              <a:rPr b="1" i="1" lang="en-US" sz="2200" spc="-1" strike="noStrike">
                <a:solidFill>
                  <a:srgbClr val="000000"/>
                </a:solidFill>
                <a:latin typeface="Gill Sans MT"/>
              </a:rPr>
              <a:t>chemical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diges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Mechanical is breaking the food into smaller piec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476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Chemical is using enzymes and chemical reactions to break apart the molecule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Gill Sans MT"/>
              </a:rPr>
              <a:t>ABSORPTION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oving the broken down food into the blood or the lymph to be carried around the bod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Gill Sans MT"/>
              </a:rPr>
              <a:t>ELIMINATION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ting rid of anything that you can’t dige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38240" y="108000"/>
            <a:ext cx="890424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90360" y="65160"/>
            <a:ext cx="897732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36440" y="63360"/>
            <a:ext cx="8923320" cy="6465960"/>
          </a:xfrm>
          <a:prstGeom prst="rect">
            <a:avLst/>
          </a:prstGeom>
          <a:ln w="0">
            <a:noFill/>
          </a:ln>
        </p:spPr>
      </p:pic>
      <p:sp>
        <p:nvSpPr>
          <p:cNvPr id="358" name="TextBox 1"/>
          <p:cNvSpPr/>
          <p:nvPr/>
        </p:nvSpPr>
        <p:spPr>
          <a:xfrm>
            <a:off x="2458440" y="1619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ton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3"/>
          <p:cNvSpPr/>
          <p:nvPr/>
        </p:nvSpPr>
        <p:spPr>
          <a:xfrm flipH="1">
            <a:off x="3228840" y="765000"/>
            <a:ext cx="936720" cy="10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1979640" y="530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9"/>
          <p:cNvSpPr/>
          <p:nvPr/>
        </p:nvSpPr>
        <p:spPr>
          <a:xfrm>
            <a:off x="3059280" y="5486400"/>
            <a:ext cx="914400" cy="103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 Tour of the Digestive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u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Tongue, teeth, salivary glands, pharynx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Enzym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Esophag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piglottis and chok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Peristalsi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Cardiac and pyloric sphincters and stomach cell typ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Gill Sans MT"/>
              </a:rPr>
              <a:t>Enzymes and gastric secretion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Pancre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Digestion enzymes, pH balance and maintenance of blood sug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iver / Gall bladd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Roles in digestion and other body proc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Small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Specialization – structure and function three sections and of the vill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nzyme actio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Large intest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Functions and anaerobic bacteria within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Gill Sans MT"/>
              </a:rPr>
              <a:t>Rectum and An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Gill Sans MT"/>
              </a:rPr>
              <a:t>Expulsion of wast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72314"/>
                </a:solidFill>
                <a:latin typeface="Gill Sans MT"/>
              </a:rPr>
              <a:t>The Mouth:  Where digestion begins</a:t>
            </a:r>
            <a:endParaRPr b="0" lang="en-US" sz="3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Hard palat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the bony part at the top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Soft palat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omposed of muscle tissu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uvula -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hat hangs down in the back of your thro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stops liquid or food from coming out your nose when you swal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ngue – moves around the food and forms a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bolu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 ball of foo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215040" y="464328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"/>
          <p:cNvPicPr/>
          <p:nvPr/>
        </p:nvPicPr>
        <p:blipFill>
          <a:blip r:embed="rId2"/>
          <a:srcRect l="0" t="0" r="0" b="9005"/>
          <a:stretch/>
        </p:blipFill>
        <p:spPr>
          <a:xfrm>
            <a:off x="7316640" y="128520"/>
            <a:ext cx="1398600" cy="14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ypes of teeth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47920" y="12949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re are different types of teeth for different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1" name="Picture 11" descr="Image map  of  mouth  and  teeth"/>
          <p:cNvPicPr/>
          <p:nvPr/>
        </p:nvPicPr>
        <p:blipFill>
          <a:blip r:embed="rId1"/>
          <a:stretch/>
        </p:blipFill>
        <p:spPr>
          <a:xfrm>
            <a:off x="2895480" y="2133720"/>
            <a:ext cx="3963960" cy="413856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"/>
          <p:cNvSpPr/>
          <p:nvPr/>
        </p:nvSpPr>
        <p:spPr>
          <a:xfrm>
            <a:off x="4614840" y="601992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utting and chopping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3"/>
          <p:cNvSpPr/>
          <p:nvPr/>
        </p:nvSpPr>
        <p:spPr>
          <a:xfrm>
            <a:off x="6477120" y="1828800"/>
            <a:ext cx="237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harp pointed teeth for cutting and tearing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"/>
          <p:cNvSpPr/>
          <p:nvPr/>
        </p:nvSpPr>
        <p:spPr>
          <a:xfrm>
            <a:off x="6994440" y="4684680"/>
            <a:ext cx="176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rushing and grinding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5"/>
          <p:cNvSpPr/>
          <p:nvPr/>
        </p:nvSpPr>
        <p:spPr>
          <a:xfrm>
            <a:off x="6705720" y="3733920"/>
            <a:ext cx="21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Grinding and mashing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47:49Z</dcterms:created>
  <dc:creator>Lisa Marcos</dc:creator>
  <dc:description/>
  <dc:language>en-US</dc:language>
  <cp:lastModifiedBy>laboratorios</cp:lastModifiedBy>
  <dcterms:modified xsi:type="dcterms:W3CDTF">2013-04-05T19:01:20Z</dcterms:modified>
  <cp:revision>52</cp:revision>
  <dc:subject/>
  <dc:title>The Digestive System Biology 12</dc:title>
</cp:coreProperties>
</file>